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1FA-252A-4660-BCBB-6F9FCF6C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F887-BC42-4304-81F8-50D696E1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20A-F066-4F30-A07A-ADAD7CA6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454-9B0B-41A3-B251-9C6155C9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9DAE-E246-4DD5-8693-B799691E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8822-9BA5-4E87-9B91-CFE63283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409D-FD62-4E78-80FD-227F1707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66A1-103A-4725-BD74-0B4D14A7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384B-3877-4C86-843A-DE73601B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B4EB-AACF-4F5B-98A7-ED7DA854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0327-FCA0-41BA-8F4C-0D7F9E9A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753-E07C-4E99-838D-BAC3424B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4EFC-A823-4CFB-9C13-9650FFC8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30ED-CA70-46ED-ACD9-0E8808E4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7629-6063-4ED2-940E-0E678718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77D8-1796-4F69-82F0-59C2907B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0E15-5BF3-4D31-95AD-22345190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428-15BD-46DE-9B71-028B7FB9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D32-68C8-4310-943B-85446BFA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223-E4CD-42EB-B64C-EFC7ACAC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2D6-8842-46BA-A1A9-AED37A68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6647-857A-444B-9FCC-B935EBBF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3710-0DAD-44D4-9206-E22D0DE3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355-C36C-430D-B0CA-3ED65CDF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65BE-CBFF-47B8-922B-648A59E3AE5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AFCF-6E0E-42BA-A78B-1F4A0B40A31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487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Elephant"/>
              </a:rPr>
              <a:t>NOTES  OVER               2 - VARIABLE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9810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ite equations in slope-intercep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590920"/>
            <a:ext cx="80773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371600" y="2895480"/>
                <a:ext cx="403848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791320" y="3352680"/>
                <a:ext cx="10666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781680" y="2971800"/>
                <a:ext cx="11001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924680" y="3200400"/>
                <a:ext cx="9525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295280" y="4343400"/>
                <a:ext cx="48006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38280" y="4876920"/>
                <a:ext cx="7876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952880" y="4876920"/>
                <a:ext cx="7876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1981080" y="5486400"/>
            <a:ext cx="464832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657600" y="5486400"/>
                <a:ext cx="32004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733920" y="6248520"/>
            <a:ext cx="68580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6172200"/>
            <a:ext cx="68580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6172200"/>
            <a:ext cx="68580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029200" y="6095880"/>
                <a:ext cx="487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248520" y="6095880"/>
                <a:ext cx="487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09880" y="6172200"/>
                <a:ext cx="438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143000" y="5791320"/>
                <a:ext cx="2362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487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Elephant"/>
              </a:rPr>
              <a:t>NOTES  OVER               2 - VARIABLE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19810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ite the equation in standard 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590920"/>
            <a:ext cx="80773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362320" y="2709720"/>
                <a:ext cx="441936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743200" y="2895480"/>
                <a:ext cx="544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419720" y="2895480"/>
                <a:ext cx="5443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705720" y="2895480"/>
                <a:ext cx="5443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3352680" y="3657600"/>
            <a:ext cx="304920" cy="38088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2971800"/>
            <a:ext cx="304560" cy="38088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3657600"/>
            <a:ext cx="304920" cy="38088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2971800"/>
            <a:ext cx="304920" cy="38088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657600"/>
            <a:ext cx="304920" cy="38088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2971800"/>
            <a:ext cx="304920" cy="38088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2514600"/>
                <a:ext cx="412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495680" y="2514600"/>
                <a:ext cx="349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705720" y="2514600"/>
                <a:ext cx="409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819520" y="4191120"/>
                <a:ext cx="10540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886200" y="4191120"/>
                <a:ext cx="13780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181480" y="4191120"/>
                <a:ext cx="9907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362320" y="4724280"/>
                <a:ext cx="15238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095880" y="4724280"/>
                <a:ext cx="15242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181480" y="4724280"/>
                <a:ext cx="9525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523880" y="4648320"/>
                <a:ext cx="952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752480" y="5410080"/>
            <a:ext cx="586764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95480" y="5410080"/>
                <a:ext cx="9525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09880" y="5410080"/>
                <a:ext cx="13780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105520" y="5410080"/>
                <a:ext cx="15238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1447920" y="6019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406600" y="6089760"/>
                <a:ext cx="8319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200400" y="6073920"/>
                <a:ext cx="1523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800600" y="6189840"/>
                <a:ext cx="6858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62720" y="6033960"/>
                <a:ext cx="9903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487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Elephant"/>
              </a:rPr>
              <a:t>NOTES  OVER               2 - VARIABLE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981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rite the equation in slope intercept 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590920"/>
            <a:ext cx="80773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219320" y="2743200"/>
                <a:ext cx="7619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ntercep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-5, 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ntercept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523880" y="3429000"/>
                <a:ext cx="1524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048120" y="3429000"/>
                <a:ext cx="13460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800600" y="3276720"/>
                <a:ext cx="289548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lop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248520" y="3352680"/>
                <a:ext cx="133956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324480" y="3886200"/>
                <a:ext cx="11559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43800" y="3657600"/>
                <a:ext cx="6858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8077320" y="3276720"/>
                <a:ext cx="82872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8229600" y="3352680"/>
                <a:ext cx="601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8381880" y="3886200"/>
                <a:ext cx="3952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209680" y="4495680"/>
                <a:ext cx="17589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064040" y="4191120"/>
                <a:ext cx="7048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648320" y="4495680"/>
                <a:ext cx="15778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895480" y="5867280"/>
                <a:ext cx="11052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038480" y="5410080"/>
                <a:ext cx="11192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019840" y="5742000"/>
                <a:ext cx="13143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487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Elephant"/>
              </a:rPr>
              <a:t>NOTES  OVER               2 - VARIABLE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1981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lve each system of equ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2590920"/>
            <a:ext cx="80773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066680" y="2666880"/>
                <a:ext cx="358164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495680" y="3048120"/>
            <a:ext cx="762120" cy="0"/>
          </a:xfrm>
          <a:prstGeom prst="line">
            <a:avLst/>
          </a:prstGeom>
          <a:ln w="57240">
            <a:solidFill>
              <a:srgbClr val="0019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3733920"/>
            <a:ext cx="762120" cy="0"/>
          </a:xfrm>
          <a:prstGeom prst="line">
            <a:avLst/>
          </a:prstGeom>
          <a:ln w="57240">
            <a:solidFill>
              <a:srgbClr val="0019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3440" y="243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3124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410080" y="2590920"/>
                <a:ext cx="987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05520" y="3200400"/>
                <a:ext cx="1395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486400" y="3809880"/>
            <a:ext cx="365760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477120" y="3733920"/>
                <a:ext cx="11430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543800" y="3765600"/>
                <a:ext cx="16002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6553080" y="4419720"/>
            <a:ext cx="91440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705720" y="4343400"/>
                <a:ext cx="7938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8001000" y="4419720"/>
            <a:ext cx="114300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8153280" y="4343400"/>
                <a:ext cx="7938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934320" y="4952880"/>
                <a:ext cx="585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467480" y="4876920"/>
                <a:ext cx="13716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 flipH="1">
            <a:off x="1066680" y="3124080"/>
            <a:ext cx="609840" cy="6858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3809880"/>
            <a:ext cx="304920" cy="533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76520" y="3962520"/>
                <a:ext cx="27543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362320" y="4495680"/>
                <a:ext cx="98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352680" y="4495680"/>
                <a:ext cx="98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1600200" y="5181480"/>
            <a:ext cx="289548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666880" y="5105520"/>
                <a:ext cx="7858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352680" y="5105520"/>
                <a:ext cx="11430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2590920" y="5715000"/>
            <a:ext cx="76176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819520" y="5638680"/>
                <a:ext cx="4824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886200" y="5638680"/>
                <a:ext cx="4827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733920" y="5715000"/>
            <a:ext cx="761760" cy="0"/>
          </a:xfrm>
          <a:prstGeom prst="line">
            <a:avLst/>
          </a:prstGeom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819520" y="6248520"/>
                <a:ext cx="547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352680" y="6203880"/>
                <a:ext cx="9572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05520" y="5638680"/>
                <a:ext cx="1726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324480" y="2590920"/>
                <a:ext cx="1346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7696080" y="2590920"/>
                <a:ext cx="1071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324480" y="3156120"/>
                <a:ext cx="1395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702560" y="3200400"/>
                <a:ext cx="1441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487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Elephant"/>
              </a:rPr>
              <a:t>NOTES  OVER               2 - VARIABLE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1981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d the vertex and axis of symme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2590920"/>
            <a:ext cx="80773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828800" y="2743200"/>
                <a:ext cx="44956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676520" y="3429000"/>
                <a:ext cx="152064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352680" y="3429000"/>
                <a:ext cx="144648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962520" y="4114800"/>
                <a:ext cx="7239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876920" y="3619440"/>
                <a:ext cx="990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752480" y="4724280"/>
                <a:ext cx="4462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752480" y="5562720"/>
                <a:ext cx="16480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29000" y="5562720"/>
                <a:ext cx="1165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5562720"/>
                <a:ext cx="958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562720" y="5410080"/>
                <a:ext cx="104292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487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Elephant"/>
              </a:rPr>
              <a:t>NOTES  OVER               2 - VARIABLE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1981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d the vertex and axis of symme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590920"/>
            <a:ext cx="80773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2590920"/>
            <a:ext cx="80773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657600" y="3733920"/>
                <a:ext cx="19494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tex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870520" y="3657600"/>
                <a:ext cx="12873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990720" y="4648320"/>
                <a:ext cx="46479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is of Symmetry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5905440" y="4572000"/>
                <a:ext cx="16574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84872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Elephant"/>
              </a:rPr>
              <a:t>NOTES  OVER               2 - VARIABLE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2743200"/>
            <a:ext cx="746784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66"/>
                </a:solidFill>
                <a:latin typeface="Chiller"/>
              </a:rPr>
              <a:t>Bookwork: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66"/>
                </a:solidFill>
                <a:latin typeface="Chiller"/>
              </a:rPr>
              <a:t>pg. 663 #2-60 even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6:55:33Z</dcterms:created>
  <dc:creator>CCSS</dc:creator>
  <dc:description/>
  <dc:language>en-US</dc:language>
  <cp:lastModifiedBy>CCSS</cp:lastModifiedBy>
  <dcterms:modified xsi:type="dcterms:W3CDTF">2002-05-14T14:24:30Z</dcterms:modified>
  <cp:revision>7</cp:revision>
  <dc:subject/>
  <dc:title>NOTES  OVER               2 - VARIABLES</dc:title>
</cp:coreProperties>
</file>